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F81-316D-4996-BF45-84382024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5A7-90A1-4520-835F-293C12C2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56D-E3CF-4EE0-A7C9-97D3B881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244-D74F-4B44-ACC4-B75B409F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E26-8A89-484F-A9E4-1C67CD22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04C-FAAE-4B54-9457-5B8CB7AB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092-49B4-466E-925D-C5158C77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A8E-EE5C-4C28-82D6-9CC7F867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732F-B43A-45BE-9628-F72D6B5C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393-C0C0-4CAA-BE1D-6C16E419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13E-5D0A-439F-8A28-152D285F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A0C-BC63-49BD-8260-882D7732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9885-FDD4-4083-8236-CD7BF335D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an acceptable practice for companies such as Under Armour to use debt to help achieve their object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rporation usually redeems its bonds at a price equal to that of the carrying amount (book valu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other assets, the cost of a bond investment includes all costs incurred to purchase the b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rporation is legally obligated to pay both interest on debt and dividends on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that may be exchanged for other securities, such as common stock, ar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1132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ab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b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ntur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k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ompany issues bonds, the proceeds received for the bonds depend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4156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rket rate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e amount of the bonds, which is due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est on th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6504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market rate of interest is greater than the contract rate of interest, a bond will s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95120"/>
            <a:ext cx="411480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its fac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prem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 undetermined amount since not enough information is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276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eries of equal cash payments at fixed intervals is called a(n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cash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0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maturity date of bonds, the Bonds Payable accoun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41148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dited for the face value of the b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dited for the present value of the b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dited for the difference between the face value and present value of the b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ited for the present value of the b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methods for amortizing a bond discount are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41148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ight-line method and complex interest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ight-line method and effective interest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ective interest method and declining-balance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ining-balance method and straight-line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 installment note is issued, an entry is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2076120"/>
            <a:ext cx="44197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Notes Payable and crediting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Interest Expense and crediting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Cash and crediting Notes Pay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Cash and crediting Accounts Pay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long-term debt and short-term debt used for different purpo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that provide for only payment of the face value at maturity date ar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ab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b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ntur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-coupon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arrying amount of bonds payable is equal to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5105520" y="2228760"/>
          <a:ext cx="388620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228760"/>
                    <a:ext cx="388620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06120"/>
            <a:ext cx="449568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amount of the bonds plus any unamortized discount or less any unamortized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amount of the bonds less any unamortized discount or plus any unamortized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amount of the bonds plus accrued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amount of the bonds less accrued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2524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onds Payable account is repo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114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income statement as a current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balance sheet as a current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balance sheet as a long-term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income statement as a long-term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0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1" name="Rectangle 11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2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4"/>
          <p:cNvSpPr/>
          <p:nvPr/>
        </p:nvSpPr>
        <p:spPr>
          <a:xfrm>
            <a:off x="457200" y="1085760"/>
            <a:ext cx="8305920" cy="47300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irst day of the fiscal year, a company issues a $1,000,000, 6%, five-year bond that pays semiannual interest of $30,000 ($1,000,0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½), receiving cash of $936,4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 OR FALS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urnal entry to record the issuance of the bonds includes a debit to Discount on Bonds Payable for $63,580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22096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first day of the fiscal year, a company issues a $1,000,000, 6%, five-year bond that pays semiannual interest of $30,000, receiving cash of $936,420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ournal entry to record the issuance of the bonds includes a debit to Discount on Bonds Payable for $63,580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TPChart"/>
          <p:cNvGraphicFramePr/>
          <p:nvPr/>
        </p:nvGraphicFramePr>
        <p:xfrm>
          <a:off x="5334120" y="2666880"/>
          <a:ext cx="3657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666880"/>
                    <a:ext cx="3657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Group 6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9" name="Rectangle 7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4114800" cy="14479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57200" y="689040"/>
            <a:ext cx="8305920" cy="26485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first day of the fiscal year, a company issues a $1,000,000, 6%, five-year bond that pays semiannual interest of $30,000 ($1,000,0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½), receiving cash of $936,420. How mu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est exp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cognized on the first interest pay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6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9" name=""/>
          <p:cNvGraphicFramePr/>
          <p:nvPr/>
        </p:nvGraphicFramePr>
        <p:xfrm>
          <a:off x="457200" y="3581280"/>
          <a:ext cx="8305920" cy="214308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6,3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6,3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5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84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3" name="Group 9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4" name="Rectangle 10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114800" cy="2514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6,3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6,3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5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0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1" name="Rectangle 11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14"/>
          <p:cNvSpPr/>
          <p:nvPr/>
        </p:nvSpPr>
        <p:spPr>
          <a:xfrm>
            <a:off x="457200" y="762120"/>
            <a:ext cx="8305920" cy="32677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ny issues a $2,000,000, 12%, five-year bond that pays semiannual interest of $120,000 ($2,000,0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2%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½), receiving cash of $2,154,4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e bond sell at a discount or a premi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PAnswers"/>
          <p:cNvSpPr/>
          <p:nvPr/>
        </p:nvSpPr>
        <p:spPr>
          <a:xfrm>
            <a:off x="457200" y="4419720"/>
            <a:ext cx="4114800" cy="14475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5242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any issues a $2,000,000, 12%, five-year bond that pays semiannual interest of $120,000 ($2,000,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2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½), receiving cash of $2,154,44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the bond sell at a discount or a premi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TPChart"/>
          <p:cNvGraphicFramePr/>
          <p:nvPr/>
        </p:nvGraphicFramePr>
        <p:xfrm>
          <a:off x="4940280" y="2133720"/>
          <a:ext cx="4199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0280" y="2133720"/>
                    <a:ext cx="4199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9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0" name="Rectangle 10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1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2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4114800" cy="14479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point at which companies such as Under Armour could incur too much deb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only large companies such as Under Armour monitor and manage the debt of the comp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there a set time frame for classifying debt as long-term in na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porations finance their operations using debt and equ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bond sells at an amount less than its face value, it will sell at a prem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cept of present value is based on the time value of mo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ndholder claims on the corporation’s assets rank ahead of stockhold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22:36:45Z</dcterms:created>
  <dc:creator> </dc:creator>
  <dc:description/>
  <dc:language>en-US</dc:language>
  <cp:lastModifiedBy>Leslie</cp:lastModifiedBy>
  <dcterms:modified xsi:type="dcterms:W3CDTF">2008-12-30T03:11:22Z</dcterms:modified>
  <cp:revision>41</cp:revision>
  <dc:subject/>
  <dc:title>Is there a uniform acceptable amount for debt for large companies such as Under Armour?</dc:title>
</cp:coreProperties>
</file>